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762-FD33-41EA-949F-4EE8A35D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A94-0701-4C34-982F-CE9062BD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211-49C0-4EB8-8780-A7E3E944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5AA-9400-4C13-B8E0-35ED997F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2EE-BF2C-4166-897B-94519222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08B-01CE-42EF-89BD-CE0EA952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EDE-2353-4232-B869-CE84DEB3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FAB-F64A-4F4C-9E01-ED02411D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F80-B892-4F0B-9CA1-69C696DF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AE1-BF30-47BE-BBF0-E2E58BC7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AC2-D1C5-48A5-B129-77F1CB3B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41F-7A9C-4612-ABEC-E8623DC6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6BC3-AEAC-4BDB-96AD-A02593185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Victor Cast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2760" y="1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-ma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lectronic mail which allows individuals with an account to send messages to another person with an e-mail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R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ternet relay chat was developed in 1988 by Jarkko Oikarinen and allows instant online communicating with someone else who is also online by typing messages back and f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ulletin board service allows a user to participate in a discussion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ypertext transfer protocol is used for handling the transmission of pages between a web server and a web brow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le transfer protocol is used to rapidly transfer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l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program used on networks such as the internet to allow users to remotely log on to a server on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4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p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ne of the first widespread internet browsing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a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network used by a single organization and only accessible by authoriz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ew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network security system that prevents unauthorized network a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xtrane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An extended intranet that provides various level of access to authorized members of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nline Profiling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A marketing technique that collects online data about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okie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Small files that contain information about the web sites an individual has vis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Usenet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: A collection of servers that offer Net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Bandwidth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: The amount of data and the speed at which the data can travel over the transmission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Client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: A computer that accesses a server to reques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 0.12119 L 0.125 0.12119 L 0.048 0.19577 L 0.077 0.31697 L 0 0.24239 L -0.077 0.31697 L -0.048 0.19577 L -0.125 0.12119 L -0.029 0.12119 L 0 0 Z">
                                      <p:cBhvr>
                                        <p:cTn id="10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250" autoRev="1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DSL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: Digital subscriber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Ethernet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: A widely used protocol for LANs that uses a bus or star topology and connects the network devices by twisted-pair wiring, coaxial cable, or fiber optic c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Netiquette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: The etiquette that should be followed when using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rotoco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A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Topolog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The logical arrangement of the nodes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ireless Network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A type of network that does not require the use of c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etwork Interface Card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A circuit board that goes into the base unit of a computer or other device in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ISP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: Internet service provider is a company that offers access to the internet for a f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Web Sites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: A series of related web p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53:13Z</dcterms:created>
  <dc:creator>762923</dc:creator>
  <dc:description/>
  <dc:language>en-US</dc:language>
  <cp:lastModifiedBy>762923</cp:lastModifiedBy>
  <dcterms:modified xsi:type="dcterms:W3CDTF">2009-04-17T16:02:22Z</dcterms:modified>
  <cp:revision>4</cp:revision>
  <dc:subject/>
  <dc:title>Vocabulary</dc:title>
</cp:coreProperties>
</file>